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039-DE7E-489A-9D52-01AB8123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F6D-4805-4774-840B-4F0F0F5A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81B-9370-45C1-B608-8D2FA264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CE8-721D-4D2B-83B7-45241E16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E8CD-3228-4BB2-89C0-2C2C1BE9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DC15-97AC-4F12-A146-43E56255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66CD-E4A0-4A88-9D04-7B368226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2B05-06BA-4CB8-87A5-D4DA561E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BCB6-0581-43D9-B35E-0D49E5B4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EC91-3692-4B04-A893-E148375F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9F36-122B-4884-901B-20779D6D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05E-5735-446C-8A35-339C70EF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6C70-D5C1-40BF-936A-A7A1FFB7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1306-5752-40A7-A9AE-E973767B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89C3-93F3-47E7-9644-C7E4CD66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3856-015E-43B4-B958-F4D2F122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1E07-090F-41DF-9E65-42DF1718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DE2-0854-4433-8E8F-0B05B4A8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0D9-50B3-4A56-8A7C-4F9B5EBE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84F-9C85-431D-85E7-9B9D1C10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6E6-5830-48CC-BD3A-BB90476C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000-3DF7-424F-BAD1-C09A7667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AA4-A9A9-4087-B76F-6801E200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A52-770A-4CBB-82D7-AE5944A3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D133-80F8-4583-A9CE-5E3A10122F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026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1027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1028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4C4B-1BC0-4BC2-AC5D-09BCE8C4392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jemplo para desarrollar el modelado del sistema mantenedor de paí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319560"/>
            <a:ext cx="64008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08366"/>
                </a:solidFill>
                <a:latin typeface="Times New Roman"/>
              </a:rPr>
              <a:t>CASOS DE USO  / UM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Mantenedor Paí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10" name="Group 41"/>
          <p:cNvGrpSpPr/>
          <p:nvPr/>
        </p:nvGrpSpPr>
        <p:grpSpPr>
          <a:xfrm>
            <a:off x="1371600" y="3048120"/>
            <a:ext cx="1278000" cy="1555920"/>
            <a:chOff x="1371600" y="3048120"/>
            <a:chExt cx="1278000" cy="1555920"/>
          </a:xfrm>
        </p:grpSpPr>
        <p:graphicFrame>
          <p:nvGraphicFramePr>
            <p:cNvPr id="111" name="Object 3"/>
            <p:cNvGraphicFramePr/>
            <p:nvPr/>
          </p:nvGraphicFramePr>
          <p:xfrm>
            <a:off x="1568160" y="3048120"/>
            <a:ext cx="725760" cy="112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68160" y="3048120"/>
                      <a:ext cx="725760" cy="112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Text Box 16"/>
            <p:cNvSpPr/>
            <p:nvPr/>
          </p:nvSpPr>
          <p:spPr>
            <a:xfrm>
              <a:off x="1371600" y="4327560"/>
              <a:ext cx="12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2000"/>
                  </a:solidFill>
                  <a:latin typeface="Times New Roman"/>
                </a:rPr>
                <a:t>Administrador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2438280" y="1981080"/>
            <a:ext cx="6096240" cy="2286000"/>
            <a:chOff x="2438280" y="1981080"/>
            <a:chExt cx="6096240" cy="2286000"/>
          </a:xfrm>
        </p:grpSpPr>
        <p:grpSp>
          <p:nvGrpSpPr>
            <p:cNvPr id="115" name="Group 6"/>
            <p:cNvGrpSpPr/>
            <p:nvPr/>
          </p:nvGrpSpPr>
          <p:grpSpPr>
            <a:xfrm>
              <a:off x="4038480" y="1981080"/>
              <a:ext cx="1905120" cy="990720"/>
              <a:chOff x="4038480" y="1981080"/>
              <a:chExt cx="1905120" cy="990720"/>
            </a:xfrm>
          </p:grpSpPr>
          <p:sp>
            <p:nvSpPr>
              <p:cNvPr id="116" name="Text Box 4"/>
              <p:cNvSpPr/>
              <p:nvPr/>
            </p:nvSpPr>
            <p:spPr>
              <a:xfrm>
                <a:off x="4289040" y="2209680"/>
                <a:ext cx="14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Agreg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4038480" y="1981080"/>
                <a:ext cx="1905120" cy="99072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Line 17"/>
            <p:cNvSpPr/>
            <p:nvPr/>
          </p:nvSpPr>
          <p:spPr>
            <a:xfrm flipV="1">
              <a:off x="2438280" y="2666880"/>
              <a:ext cx="129564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19" name="Group 27"/>
            <p:cNvGrpSpPr/>
            <p:nvPr/>
          </p:nvGrpSpPr>
          <p:grpSpPr>
            <a:xfrm>
              <a:off x="7848720" y="3505320"/>
              <a:ext cx="685800" cy="761760"/>
              <a:chOff x="7848720" y="3505320"/>
              <a:chExt cx="685800" cy="761760"/>
            </a:xfrm>
          </p:grpSpPr>
          <p:sp>
            <p:nvSpPr>
              <p:cNvPr id="120" name="Oval 22"/>
              <p:cNvSpPr/>
              <p:nvPr/>
            </p:nvSpPr>
            <p:spPr>
              <a:xfrm>
                <a:off x="7848720" y="3505320"/>
                <a:ext cx="685800" cy="22860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1" name="Oval 24"/>
              <p:cNvSpPr/>
              <p:nvPr/>
            </p:nvSpPr>
            <p:spPr>
              <a:xfrm>
                <a:off x="7848720" y="4038480"/>
                <a:ext cx="685800" cy="22860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2" name="Line 25"/>
              <p:cNvSpPr/>
              <p:nvPr/>
            </p:nvSpPr>
            <p:spPr>
              <a:xfrm>
                <a:off x="7848720" y="3581280"/>
                <a:ext cx="0" cy="5335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3" name="Line 26"/>
              <p:cNvSpPr/>
              <p:nvPr/>
            </p:nvSpPr>
            <p:spPr>
              <a:xfrm>
                <a:off x="8534520" y="3657600"/>
                <a:ext cx="0" cy="5335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Line 28"/>
            <p:cNvSpPr/>
            <p:nvPr/>
          </p:nvSpPr>
          <p:spPr>
            <a:xfrm>
              <a:off x="6019920" y="2438280"/>
              <a:ext cx="1904760" cy="990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Group 37"/>
          <p:cNvGrpSpPr/>
          <p:nvPr/>
        </p:nvGrpSpPr>
        <p:grpSpPr>
          <a:xfrm>
            <a:off x="2590920" y="4191120"/>
            <a:ext cx="5181480" cy="990360"/>
            <a:chOff x="2590920" y="4191120"/>
            <a:chExt cx="5181480" cy="990360"/>
          </a:xfrm>
        </p:grpSpPr>
        <p:grpSp>
          <p:nvGrpSpPr>
            <p:cNvPr id="126" name="Group 10"/>
            <p:cNvGrpSpPr/>
            <p:nvPr/>
          </p:nvGrpSpPr>
          <p:grpSpPr>
            <a:xfrm>
              <a:off x="3886200" y="4191120"/>
              <a:ext cx="1600200" cy="990360"/>
              <a:chOff x="3886200" y="4191120"/>
              <a:chExt cx="1600200" cy="990360"/>
            </a:xfrm>
          </p:grpSpPr>
          <p:sp>
            <p:nvSpPr>
              <p:cNvPr id="127" name="Text Box 11"/>
              <p:cNvSpPr/>
              <p:nvPr/>
            </p:nvSpPr>
            <p:spPr>
              <a:xfrm>
                <a:off x="4096800" y="4419360"/>
                <a:ext cx="117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Busc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8" name="Oval 12"/>
              <p:cNvSpPr/>
              <p:nvPr/>
            </p:nvSpPr>
            <p:spPr>
              <a:xfrm>
                <a:off x="3886200" y="4191120"/>
                <a:ext cx="1600200" cy="99036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Line 20"/>
            <p:cNvSpPr/>
            <p:nvPr/>
          </p:nvSpPr>
          <p:spPr>
            <a:xfrm>
              <a:off x="2590920" y="4191120"/>
              <a:ext cx="12952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 flipV="1">
              <a:off x="5562720" y="4266720"/>
              <a:ext cx="220968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1" name="Group 39"/>
          <p:cNvGrpSpPr/>
          <p:nvPr/>
        </p:nvGrpSpPr>
        <p:grpSpPr>
          <a:xfrm>
            <a:off x="2514600" y="3048120"/>
            <a:ext cx="5257800" cy="1142640"/>
            <a:chOff x="2514600" y="3048120"/>
            <a:chExt cx="5257800" cy="1142640"/>
          </a:xfrm>
        </p:grpSpPr>
        <p:sp>
          <p:nvSpPr>
            <p:cNvPr id="132" name="Line 29"/>
            <p:cNvSpPr/>
            <p:nvPr/>
          </p:nvSpPr>
          <p:spPr>
            <a:xfrm>
              <a:off x="7086600" y="3581280"/>
              <a:ext cx="6858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33" name="Group 7"/>
            <p:cNvGrpSpPr/>
            <p:nvPr/>
          </p:nvGrpSpPr>
          <p:grpSpPr>
            <a:xfrm>
              <a:off x="5105520" y="3048120"/>
              <a:ext cx="1904760" cy="990360"/>
              <a:chOff x="5105520" y="3048120"/>
              <a:chExt cx="1904760" cy="990360"/>
            </a:xfrm>
          </p:grpSpPr>
          <p:sp>
            <p:nvSpPr>
              <p:cNvPr id="134" name="Text Box 8"/>
              <p:cNvSpPr/>
              <p:nvPr/>
            </p:nvSpPr>
            <p:spPr>
              <a:xfrm>
                <a:off x="5356080" y="3276360"/>
                <a:ext cx="14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Modific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5" name="Oval 9"/>
              <p:cNvSpPr/>
              <p:nvPr/>
            </p:nvSpPr>
            <p:spPr>
              <a:xfrm>
                <a:off x="5105520" y="3048120"/>
                <a:ext cx="1904760" cy="99036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Line 19"/>
            <p:cNvSpPr/>
            <p:nvPr/>
          </p:nvSpPr>
          <p:spPr>
            <a:xfrm flipV="1">
              <a:off x="2514600" y="3580920"/>
              <a:ext cx="243828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Line 32"/>
            <p:cNvSpPr/>
            <p:nvPr/>
          </p:nvSpPr>
          <p:spPr>
            <a:xfrm flipV="1">
              <a:off x="5181480" y="3885840"/>
              <a:ext cx="22860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8" name="Group 40"/>
          <p:cNvGrpSpPr/>
          <p:nvPr/>
        </p:nvGrpSpPr>
        <p:grpSpPr>
          <a:xfrm>
            <a:off x="2438280" y="4343040"/>
            <a:ext cx="5562720" cy="1752840"/>
            <a:chOff x="2438280" y="4343040"/>
            <a:chExt cx="5562720" cy="1752840"/>
          </a:xfrm>
        </p:grpSpPr>
        <p:grpSp>
          <p:nvGrpSpPr>
            <p:cNvPr id="139" name="Group 13"/>
            <p:cNvGrpSpPr/>
            <p:nvPr/>
          </p:nvGrpSpPr>
          <p:grpSpPr>
            <a:xfrm>
              <a:off x="5943600" y="5105520"/>
              <a:ext cx="1905120" cy="990360"/>
              <a:chOff x="5943600" y="5105520"/>
              <a:chExt cx="1905120" cy="990360"/>
            </a:xfrm>
          </p:grpSpPr>
          <p:sp>
            <p:nvSpPr>
              <p:cNvPr id="140" name="Text Box 14"/>
              <p:cNvSpPr/>
              <p:nvPr/>
            </p:nvSpPr>
            <p:spPr>
              <a:xfrm>
                <a:off x="6194160" y="5333760"/>
                <a:ext cx="14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Elimin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1" name="Oval 15"/>
              <p:cNvSpPr/>
              <p:nvPr/>
            </p:nvSpPr>
            <p:spPr>
              <a:xfrm>
                <a:off x="5943600" y="5105520"/>
                <a:ext cx="1905120" cy="99036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Line 21"/>
            <p:cNvSpPr/>
            <p:nvPr/>
          </p:nvSpPr>
          <p:spPr>
            <a:xfrm>
              <a:off x="2438280" y="4648320"/>
              <a:ext cx="3353040" cy="1218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 flipV="1">
              <a:off x="7467480" y="4343040"/>
              <a:ext cx="53352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>
              <a:off x="5486400" y="4952880"/>
              <a:ext cx="60948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5" name="Group 35"/>
          <p:cNvGrpSpPr/>
          <p:nvPr/>
        </p:nvGrpSpPr>
        <p:grpSpPr>
          <a:xfrm>
            <a:off x="3505320" y="1752480"/>
            <a:ext cx="5105160" cy="4648320"/>
            <a:chOff x="3505320" y="1752480"/>
            <a:chExt cx="5105160" cy="4648320"/>
          </a:xfrm>
        </p:grpSpPr>
        <p:sp>
          <p:nvSpPr>
            <p:cNvPr id="146" name="Rectangle 18"/>
            <p:cNvSpPr/>
            <p:nvPr/>
          </p:nvSpPr>
          <p:spPr>
            <a:xfrm>
              <a:off x="3505320" y="1752480"/>
              <a:ext cx="5105160" cy="46483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Text Box 34"/>
            <p:cNvSpPr/>
            <p:nvPr/>
          </p:nvSpPr>
          <p:spPr>
            <a:xfrm>
              <a:off x="7086600" y="1981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2000"/>
                  </a:solidFill>
                  <a:latin typeface="Times New Roman"/>
                </a:rPr>
                <a:t>Sistem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Objetiv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ermitir al Administrador del sistema Agregar, Modificar, Eliminar y Consultar los país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Precondi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debe estar autenticado con el perfil administrad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Postcondi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os listados de países son actualizados en la base de da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Frecuenc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da vez que el usuario necesite realizar cambi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Curso normal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ingresa al sistem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selecciona desde el menú Mantenedores la opción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sistema muestra la pantalla con el listado de países ingresado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n esta pantalla se muestran 4 botones AGREGAR, BUSCAR, MODIFICAR, ELIMINA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rso normal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gregar Paí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usuario presiona el botón Agreg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sistema muestra la pantalla de ingreso de informa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mpos de Pantall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ombre: Nombre del paí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Vigencia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ot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Aceptar, Cancela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Curso normal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usuario ingresa la información y presiona el botón Acept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valida la inform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crea un ID para el país, graba la información, finalmente informa al usuario el resultado de la operació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usuario presiona Acep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muestra la pantalla con el listado de paí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Curso alternativ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i el usuario presiona el Cancel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muestra la pantalla con el listado de paí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Excep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i existen errores del sistema estos deben ser grabados en la consola del sistem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debe ser notificado que hubo un problema de operació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mensaje del usuario debe ser el siguiente: “El sistema no puede realizar la operación solicitada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asos de Us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s una técnica para capturar información de cómo un sistema o negocio trabaja, o de cómo se desea que trabaje. No pertenece estrictamente al enfoque orientado a objeto, es una técnica para captura de requisi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Fin del caso de us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selecciona otra opción de men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cierra el program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odificar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iminar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uscar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scriben bajo la forma de acciones y reacciones el comportamiento de un sistema desde el p.d.v. del usua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ermiten definir los límites del sistema y las relaciones entre el sistema y el entor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on descripciones de la funcionalidad del sistema independientes de la implement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articionan el conjunto de necesidades atendiendo a la categoría de usuarios que participan en el mismo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2000"/>
                </a:solidFill>
                <a:latin typeface="Times New Roman"/>
              </a:rPr>
              <a:t>Actor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5639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incipales: personas que usan el sistem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ecundarios: personas que mantienen o administra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terial externo: dispositivos que forman parte y son utilizad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tros sistem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7162920" y="3352680"/>
          <a:ext cx="13064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352680"/>
                    <a:ext cx="13064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Rela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unicació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clus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xtensió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eguntas Clav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áles son las tareas del actor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qué información crea, guarda, modifica, destruye o lee el actor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be el actor notificar al sistema los cambios externo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be el sistema informar al actor de los cambios interno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lementos para descrip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ICIO: cuándo y qué actor lo produce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FIN: cuándo se produce y qué valor devuelve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ACCION actor-caso de uso: qué mensajes intercambian ambo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BJETIVO : qué lleva a cabo o intenta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lementos para descrip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ronología y origen de las interaccion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peticiones de comportamiento: qué operaciones son iterada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ituaciones opcionales: qué ejecuciones alternativas se presentan en el caso de uso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20:03:24Z</dcterms:created>
  <dc:creator>R_CORDERO_C</dc:creator>
  <dc:description/>
  <dc:language>en-US</dc:language>
  <cp:lastModifiedBy>INVEST</cp:lastModifiedBy>
  <dcterms:modified xsi:type="dcterms:W3CDTF">2010-09-29T01:43:24Z</dcterms:modified>
  <cp:revision>24</cp:revision>
  <dc:subject/>
  <dc:title>Casos de Uso</dc:title>
</cp:coreProperties>
</file>