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6E5C-CFE1-4DFB-9903-5D1F8120C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B80B-2372-425B-9523-D25DAF600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F051-2AC8-4C33-A93B-EEA17494B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AFAB-B540-4A07-AA9A-8110BE281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FD19E-F3E6-4670-BBF5-B72082FC5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F2C8D-785D-4884-B183-49B71B874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ED36F-A57A-4925-91CF-0AADDCB9D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0E3D0-430A-4792-A64F-944F921B8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3616D-9F79-4723-B071-16268F3EC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6621C-CC8A-4D1B-AB9C-0CDF1FA8F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8D223-97D3-488C-A3DD-17D0805D3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CF08-1054-4A44-B787-980DCE4E7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98857-B532-474C-87BD-4319372B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3479D-0EB0-41A1-94C7-00107EC5D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F6316-DECD-4E13-991E-B0BAF74EB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92A8C-1218-4205-AD98-D5B53FF0A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9A5E5-EAD0-42A9-BF0C-A0BC03DFF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CFD3-6A46-405E-B89D-BF80A6B5E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367B-D31C-4169-B19B-88C78AAE7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9821-C683-4A1F-96D1-CE6479050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DA6C-0F9B-4B39-9657-CF5E0DBCA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4544-B25C-4CA6-ADC3-A8B892DC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58D0-7D52-4E06-931F-054EFAECB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FB4C-BDDD-45CD-BFEE-50642DC95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Picture 4" descr="A:\minispir.GIF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D903B-FA37-42E5-ADCE-6EC0670F8443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1026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1027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Picture 1028" descr="A:\minispir.GIF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2F5F2-3B8B-4B74-A89E-8E601A47A0DD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33"/>
                </a:solidFill>
                <a:latin typeface="Times New Roman"/>
              </a:rPr>
              <a:t>Ejemplo para desarrollar el modelado del sistema mantenedor de país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295280" y="3319560"/>
            <a:ext cx="6400800" cy="110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a08366"/>
                </a:solidFill>
                <a:latin typeface="Times New Roman"/>
              </a:rPr>
              <a:t>CASOS DE USO  / UM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33"/>
                </a:solidFill>
                <a:latin typeface="Times New Roman"/>
              </a:rPr>
              <a:t>CU01 Mantenedor País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pSp>
        <p:nvGrpSpPr>
          <p:cNvPr id="110" name="Group 41"/>
          <p:cNvGrpSpPr/>
          <p:nvPr/>
        </p:nvGrpSpPr>
        <p:grpSpPr>
          <a:xfrm>
            <a:off x="1371600" y="3048120"/>
            <a:ext cx="1278000" cy="1555920"/>
            <a:chOff x="1371600" y="3048120"/>
            <a:chExt cx="1278000" cy="1555920"/>
          </a:xfrm>
        </p:grpSpPr>
        <p:graphicFrame>
          <p:nvGraphicFramePr>
            <p:cNvPr id="111" name="Object 3"/>
            <p:cNvGraphicFramePr/>
            <p:nvPr/>
          </p:nvGraphicFramePr>
          <p:xfrm>
            <a:off x="1568160" y="3048120"/>
            <a:ext cx="725760" cy="1120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2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68160" y="3048120"/>
                      <a:ext cx="725760" cy="112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3" name="Text Box 16"/>
            <p:cNvSpPr/>
            <p:nvPr/>
          </p:nvSpPr>
          <p:spPr>
            <a:xfrm>
              <a:off x="1371600" y="4327560"/>
              <a:ext cx="127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402000"/>
                  </a:solidFill>
                  <a:latin typeface="Times New Roman"/>
                </a:rPr>
                <a:t>Administrador</a:t>
              </a:r>
              <a:endParaRPr b="0" lang="en-US" sz="1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14" name="Group 36"/>
          <p:cNvGrpSpPr/>
          <p:nvPr/>
        </p:nvGrpSpPr>
        <p:grpSpPr>
          <a:xfrm>
            <a:off x="2438280" y="1981080"/>
            <a:ext cx="6096240" cy="2286000"/>
            <a:chOff x="2438280" y="1981080"/>
            <a:chExt cx="6096240" cy="2286000"/>
          </a:xfrm>
        </p:grpSpPr>
        <p:grpSp>
          <p:nvGrpSpPr>
            <p:cNvPr id="115" name="Group 6"/>
            <p:cNvGrpSpPr/>
            <p:nvPr/>
          </p:nvGrpSpPr>
          <p:grpSpPr>
            <a:xfrm>
              <a:off x="4038480" y="1981080"/>
              <a:ext cx="1905120" cy="990720"/>
              <a:chOff x="4038480" y="1981080"/>
              <a:chExt cx="1905120" cy="990720"/>
            </a:xfrm>
          </p:grpSpPr>
          <p:sp>
            <p:nvSpPr>
              <p:cNvPr id="116" name="Text Box 4"/>
              <p:cNvSpPr/>
              <p:nvPr/>
            </p:nvSpPr>
            <p:spPr>
              <a:xfrm>
                <a:off x="4289040" y="2209680"/>
                <a:ext cx="140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402000"/>
                    </a:solidFill>
                    <a:latin typeface="Times New Roman"/>
                  </a:rPr>
                  <a:t>Agregar</a:t>
                </a:r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17" name="Oval 5"/>
              <p:cNvSpPr/>
              <p:nvPr/>
            </p:nvSpPr>
            <p:spPr>
              <a:xfrm>
                <a:off x="4038480" y="1981080"/>
                <a:ext cx="1905120" cy="990720"/>
              </a:xfrm>
              <a:prstGeom prst="ellipse">
                <a:avLst/>
              </a:prstGeom>
              <a:noFill/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Line 17"/>
            <p:cNvSpPr/>
            <p:nvPr/>
          </p:nvSpPr>
          <p:spPr>
            <a:xfrm flipV="1">
              <a:off x="2438280" y="2666880"/>
              <a:ext cx="1295640" cy="9144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pSp>
          <p:nvGrpSpPr>
            <p:cNvPr id="119" name="Group 27"/>
            <p:cNvGrpSpPr/>
            <p:nvPr/>
          </p:nvGrpSpPr>
          <p:grpSpPr>
            <a:xfrm>
              <a:off x="7848720" y="3505320"/>
              <a:ext cx="685800" cy="761760"/>
              <a:chOff x="7848720" y="3505320"/>
              <a:chExt cx="685800" cy="761760"/>
            </a:xfrm>
          </p:grpSpPr>
          <p:sp>
            <p:nvSpPr>
              <p:cNvPr id="120" name="Oval 22"/>
              <p:cNvSpPr/>
              <p:nvPr/>
            </p:nvSpPr>
            <p:spPr>
              <a:xfrm>
                <a:off x="7848720" y="3505320"/>
                <a:ext cx="685800" cy="228600"/>
              </a:xfrm>
              <a:prstGeom prst="ellipse">
                <a:avLst/>
              </a:prstGeom>
              <a:noFill/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21" name="Oval 24"/>
              <p:cNvSpPr/>
              <p:nvPr/>
            </p:nvSpPr>
            <p:spPr>
              <a:xfrm>
                <a:off x="7848720" y="4038480"/>
                <a:ext cx="685800" cy="228600"/>
              </a:xfrm>
              <a:prstGeom prst="ellipse">
                <a:avLst/>
              </a:prstGeom>
              <a:noFill/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22" name="Line 25"/>
              <p:cNvSpPr/>
              <p:nvPr/>
            </p:nvSpPr>
            <p:spPr>
              <a:xfrm>
                <a:off x="7848720" y="3581280"/>
                <a:ext cx="0" cy="533520"/>
              </a:xfrm>
              <a:prstGeom prst="line">
                <a:avLst/>
              </a:prstGeom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23" name="Line 26"/>
              <p:cNvSpPr/>
              <p:nvPr/>
            </p:nvSpPr>
            <p:spPr>
              <a:xfrm>
                <a:off x="8534520" y="3657600"/>
                <a:ext cx="0" cy="533520"/>
              </a:xfrm>
              <a:prstGeom prst="line">
                <a:avLst/>
              </a:prstGeom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sp>
          <p:nvSpPr>
            <p:cNvPr id="124" name="Line 28"/>
            <p:cNvSpPr/>
            <p:nvPr/>
          </p:nvSpPr>
          <p:spPr>
            <a:xfrm>
              <a:off x="6019920" y="2438280"/>
              <a:ext cx="1904760" cy="9907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25" name="Group 37"/>
          <p:cNvGrpSpPr/>
          <p:nvPr/>
        </p:nvGrpSpPr>
        <p:grpSpPr>
          <a:xfrm>
            <a:off x="2590920" y="4191120"/>
            <a:ext cx="5181480" cy="990360"/>
            <a:chOff x="2590920" y="4191120"/>
            <a:chExt cx="5181480" cy="990360"/>
          </a:xfrm>
        </p:grpSpPr>
        <p:grpSp>
          <p:nvGrpSpPr>
            <p:cNvPr id="126" name="Group 10"/>
            <p:cNvGrpSpPr/>
            <p:nvPr/>
          </p:nvGrpSpPr>
          <p:grpSpPr>
            <a:xfrm>
              <a:off x="3886200" y="4191120"/>
              <a:ext cx="1600200" cy="990360"/>
              <a:chOff x="3886200" y="4191120"/>
              <a:chExt cx="1600200" cy="990360"/>
            </a:xfrm>
          </p:grpSpPr>
          <p:sp>
            <p:nvSpPr>
              <p:cNvPr id="127" name="Text Box 11"/>
              <p:cNvSpPr/>
              <p:nvPr/>
            </p:nvSpPr>
            <p:spPr>
              <a:xfrm>
                <a:off x="4096800" y="4419360"/>
                <a:ext cx="1178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402000"/>
                    </a:solidFill>
                    <a:latin typeface="Times New Roman"/>
                  </a:rPr>
                  <a:t>Buscar</a:t>
                </a:r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28" name="Oval 12"/>
              <p:cNvSpPr/>
              <p:nvPr/>
            </p:nvSpPr>
            <p:spPr>
              <a:xfrm>
                <a:off x="3886200" y="4191120"/>
                <a:ext cx="1600200" cy="990360"/>
              </a:xfrm>
              <a:prstGeom prst="ellipse">
                <a:avLst/>
              </a:prstGeom>
              <a:noFill/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Line 20"/>
            <p:cNvSpPr/>
            <p:nvPr/>
          </p:nvSpPr>
          <p:spPr>
            <a:xfrm>
              <a:off x="2590920" y="4191120"/>
              <a:ext cx="1295280" cy="4572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0" name="Line 30"/>
            <p:cNvSpPr/>
            <p:nvPr/>
          </p:nvSpPr>
          <p:spPr>
            <a:xfrm flipV="1">
              <a:off x="5562720" y="4266720"/>
              <a:ext cx="2209680" cy="3049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31" name="Group 39"/>
          <p:cNvGrpSpPr/>
          <p:nvPr/>
        </p:nvGrpSpPr>
        <p:grpSpPr>
          <a:xfrm>
            <a:off x="2514600" y="3048120"/>
            <a:ext cx="5257800" cy="1142640"/>
            <a:chOff x="2514600" y="3048120"/>
            <a:chExt cx="5257800" cy="1142640"/>
          </a:xfrm>
        </p:grpSpPr>
        <p:sp>
          <p:nvSpPr>
            <p:cNvPr id="132" name="Line 29"/>
            <p:cNvSpPr/>
            <p:nvPr/>
          </p:nvSpPr>
          <p:spPr>
            <a:xfrm>
              <a:off x="7086600" y="3581280"/>
              <a:ext cx="685800" cy="2286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pSp>
          <p:nvGrpSpPr>
            <p:cNvPr id="133" name="Group 7"/>
            <p:cNvGrpSpPr/>
            <p:nvPr/>
          </p:nvGrpSpPr>
          <p:grpSpPr>
            <a:xfrm>
              <a:off x="5105520" y="3048120"/>
              <a:ext cx="1904760" cy="990360"/>
              <a:chOff x="5105520" y="3048120"/>
              <a:chExt cx="1904760" cy="990360"/>
            </a:xfrm>
          </p:grpSpPr>
          <p:sp>
            <p:nvSpPr>
              <p:cNvPr id="134" name="Text Box 8"/>
              <p:cNvSpPr/>
              <p:nvPr/>
            </p:nvSpPr>
            <p:spPr>
              <a:xfrm>
                <a:off x="5356080" y="3276360"/>
                <a:ext cx="140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402000"/>
                    </a:solidFill>
                    <a:latin typeface="Times New Roman"/>
                  </a:rPr>
                  <a:t>Modificar</a:t>
                </a:r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35" name="Oval 9"/>
              <p:cNvSpPr/>
              <p:nvPr/>
            </p:nvSpPr>
            <p:spPr>
              <a:xfrm>
                <a:off x="5105520" y="3048120"/>
                <a:ext cx="1904760" cy="990360"/>
              </a:xfrm>
              <a:prstGeom prst="ellipse">
                <a:avLst/>
              </a:prstGeom>
              <a:noFill/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sp>
          <p:nvSpPr>
            <p:cNvPr id="136" name="Line 19"/>
            <p:cNvSpPr/>
            <p:nvPr/>
          </p:nvSpPr>
          <p:spPr>
            <a:xfrm flipV="1">
              <a:off x="2514600" y="3580920"/>
              <a:ext cx="2438280" cy="3049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7" name="Line 32"/>
            <p:cNvSpPr/>
            <p:nvPr/>
          </p:nvSpPr>
          <p:spPr>
            <a:xfrm flipV="1">
              <a:off x="5181480" y="3885840"/>
              <a:ext cx="228600" cy="3049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38" name="Group 40"/>
          <p:cNvGrpSpPr/>
          <p:nvPr/>
        </p:nvGrpSpPr>
        <p:grpSpPr>
          <a:xfrm>
            <a:off x="2438280" y="4343040"/>
            <a:ext cx="5562720" cy="1752840"/>
            <a:chOff x="2438280" y="4343040"/>
            <a:chExt cx="5562720" cy="1752840"/>
          </a:xfrm>
        </p:grpSpPr>
        <p:grpSp>
          <p:nvGrpSpPr>
            <p:cNvPr id="139" name="Group 13"/>
            <p:cNvGrpSpPr/>
            <p:nvPr/>
          </p:nvGrpSpPr>
          <p:grpSpPr>
            <a:xfrm>
              <a:off x="5943600" y="5105520"/>
              <a:ext cx="1905120" cy="990360"/>
              <a:chOff x="5943600" y="5105520"/>
              <a:chExt cx="1905120" cy="990360"/>
            </a:xfrm>
          </p:grpSpPr>
          <p:sp>
            <p:nvSpPr>
              <p:cNvPr id="140" name="Text Box 14"/>
              <p:cNvSpPr/>
              <p:nvPr/>
            </p:nvSpPr>
            <p:spPr>
              <a:xfrm>
                <a:off x="6194160" y="5333760"/>
                <a:ext cx="140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402000"/>
                    </a:solidFill>
                    <a:latin typeface="Times New Roman"/>
                  </a:rPr>
                  <a:t>Eliminar</a:t>
                </a:r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41" name="Oval 15"/>
              <p:cNvSpPr/>
              <p:nvPr/>
            </p:nvSpPr>
            <p:spPr>
              <a:xfrm>
                <a:off x="5943600" y="5105520"/>
                <a:ext cx="1905120" cy="990360"/>
              </a:xfrm>
              <a:prstGeom prst="ellipse">
                <a:avLst/>
              </a:prstGeom>
              <a:noFill/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sp>
          <p:nvSpPr>
            <p:cNvPr id="142" name="Line 21"/>
            <p:cNvSpPr/>
            <p:nvPr/>
          </p:nvSpPr>
          <p:spPr>
            <a:xfrm>
              <a:off x="2438280" y="4648320"/>
              <a:ext cx="3353040" cy="121896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 flipV="1">
              <a:off x="7467480" y="4343040"/>
              <a:ext cx="533520" cy="7621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4" name="Line 33"/>
            <p:cNvSpPr/>
            <p:nvPr/>
          </p:nvSpPr>
          <p:spPr>
            <a:xfrm>
              <a:off x="5486400" y="4952880"/>
              <a:ext cx="609480" cy="3049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45" name="Group 35"/>
          <p:cNvGrpSpPr/>
          <p:nvPr/>
        </p:nvGrpSpPr>
        <p:grpSpPr>
          <a:xfrm>
            <a:off x="3505320" y="1752480"/>
            <a:ext cx="5105160" cy="4648320"/>
            <a:chOff x="3505320" y="1752480"/>
            <a:chExt cx="5105160" cy="4648320"/>
          </a:xfrm>
        </p:grpSpPr>
        <p:sp>
          <p:nvSpPr>
            <p:cNvPr id="146" name="Rectangle 18"/>
            <p:cNvSpPr/>
            <p:nvPr/>
          </p:nvSpPr>
          <p:spPr>
            <a:xfrm>
              <a:off x="3505320" y="1752480"/>
              <a:ext cx="5105160" cy="464832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7" name="Text Box 34"/>
            <p:cNvSpPr/>
            <p:nvPr/>
          </p:nvSpPr>
          <p:spPr>
            <a:xfrm>
              <a:off x="7086600" y="198108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402000"/>
                  </a:solidFill>
                  <a:latin typeface="Times New Roman"/>
                </a:rPr>
                <a:t>Sistema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33"/>
                </a:solidFill>
                <a:latin typeface="Times New Roman"/>
              </a:rPr>
              <a:t>CU01Objetivo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Permitir al Administrador del sistema Agregar, Modificar, Eliminar y Consultar los países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33"/>
                </a:solidFill>
                <a:latin typeface="Times New Roman"/>
              </a:rPr>
              <a:t>CU01 Precondicion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El usuario debe estar autenticado con el perfil administrado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33"/>
                </a:solidFill>
                <a:latin typeface="Times New Roman"/>
              </a:rPr>
              <a:t>CU01 Postcondicion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Los listados de países son actualizados en la base de dato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33"/>
                </a:solidFill>
                <a:latin typeface="Times New Roman"/>
              </a:rPr>
              <a:t>CU01 Frecuencia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Cada vez que el usuario necesite realizar cambio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33"/>
                </a:solidFill>
                <a:latin typeface="Times New Roman"/>
              </a:rPr>
              <a:t>CU01 Curso normal de evento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El usuario ingresa al sistem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El usuario selecciona desde el menú Mantenedores la opción País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El sistema muestra la pantalla con el listado de países ingresados.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En esta pantalla se muestran 4 botones AGREGAR, BUSCAR, MODIFICAR, ELIMINAR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33"/>
                </a:solidFill>
                <a:latin typeface="Times New Roman"/>
              </a:rPr>
              <a:t>Curso normal de evento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Agregar Paí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El usuario presiona el botón Agregar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El sistema muestra la pantalla de ingreso de informació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1062720" indent="-21240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ampos de Pantall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487880" indent="-21240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Nombre: Nombre del país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3" marL="1487880" indent="-21240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Vigencia: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2" marL="1062720" indent="-21240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Boton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487880" indent="-21240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Aceptar, Cancelar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33"/>
                </a:solidFill>
                <a:latin typeface="Times New Roman"/>
              </a:rPr>
              <a:t>CU01 Curso normal de evento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El usuario ingresa la información y presiona el botón Aceptar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El sistema valida la información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El sistema crea un ID para el país, graba la información, finalmente informa al usuario el resultado de la operación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El usuario presiona Aceptar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El sistema muestra la pantalla con el listado de país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33"/>
                </a:solidFill>
                <a:latin typeface="Times New Roman"/>
              </a:rPr>
              <a:t>CU01 Curso alternativo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Si el usuario presiona el Cancelar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El sistema muestra la pantalla con el listado de país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33"/>
                </a:solidFill>
                <a:latin typeface="Times New Roman"/>
              </a:rPr>
              <a:t>CU01 Excepcion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Si existen errores del sistema estos deben ser grabados en la consola del sistema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El usuario debe ser notificado que hubo un problema de operación.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El mensaje del usuario debe ser el siguiente: “El sistema no puede realizar la operación solicitada.”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33"/>
                </a:solidFill>
                <a:latin typeface="Times New Roman"/>
              </a:rPr>
              <a:t>Casos de Uso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Es una técnica para capturar información de cómo un sistema o negocio trabaja, o de cómo se desea que trabaje. No pertenece estrictamente al enfoque orientado a objeto, es una técnica para captura de requisito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33"/>
                </a:solidFill>
                <a:latin typeface="Times New Roman"/>
              </a:rPr>
              <a:t>CU01 Fin del caso de uso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El usuario selecciona otra opción de menú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El usuario cierra el program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33"/>
                </a:solidFill>
                <a:latin typeface="Times New Roman"/>
              </a:rPr>
              <a:t>Tarea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Modificar país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Eliminar país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Buscar país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33"/>
                </a:solidFill>
                <a:latin typeface="Times New Roman"/>
              </a:rPr>
              <a:t>Característica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Describen bajo la forma de acciones y reacciones el comportamiento de un sistema desde el p.d.v. del usuari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Permiten definir los límites del sistema y las relaciones entre el sistema y el entorn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33"/>
                </a:solidFill>
                <a:latin typeface="Times New Roman"/>
              </a:rPr>
              <a:t>Característica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Son descripciones de la funcionalidad del sistema independientes de la implementació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Particionan el conjunto de necesidades atendiendo a la categoría de usuarios que participan en el mismo.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402000"/>
                </a:solidFill>
                <a:latin typeface="Times New Roman"/>
              </a:rPr>
              <a:t>Actor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56390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Principales: personas que usan el sistema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Secundarios: personas que mantienen o administran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Material externo: dispositivos que forman parte y son utilizados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Otros sistema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99" name="Object 4"/>
          <p:cNvGraphicFramePr/>
          <p:nvPr/>
        </p:nvGraphicFramePr>
        <p:xfrm>
          <a:off x="7162920" y="3352680"/>
          <a:ext cx="130644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3352680"/>
                    <a:ext cx="130644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33"/>
                </a:solidFill>
                <a:latin typeface="Times New Roman"/>
              </a:rPr>
              <a:t>Relacion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Comunicación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Inclusió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Extensión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Herenci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33"/>
                </a:solidFill>
                <a:latin typeface="Times New Roman"/>
              </a:rPr>
              <a:t>Preguntas Clav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cuáles son las tareas del actor?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qué información crea, guarda, modifica, destruye o lee el actor?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debe el actor notificar al sistema los cambios externos?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debe el sistema informar al actor de los cambios internos?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33"/>
                </a:solidFill>
                <a:latin typeface="Times New Roman"/>
              </a:rPr>
              <a:t>Elementos para descripció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INICIO: cuándo y qué actor lo produce?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FIN: cuándo se produce y qué valor devuelve?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INTERACCION actor-caso de uso: qué mensajes intercambian ambos?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OBJETIVO : qué lleva a cabo o intenta?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33"/>
                </a:solidFill>
                <a:latin typeface="Times New Roman"/>
              </a:rPr>
              <a:t>Elementos para descripció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Cronología y origen de las interacciones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Repeticiones de comportamiento: qué operaciones son iteradas?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Situaciones opcionales: qué ejecuciones alternativas se presentan en el caso de uso?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20:03:24Z</dcterms:created>
  <dc:creator>R_CORDERO_C</dc:creator>
  <dc:description/>
  <dc:language>en-US</dc:language>
  <cp:lastModifiedBy>INVEST</cp:lastModifiedBy>
  <dcterms:modified xsi:type="dcterms:W3CDTF">2010-09-29T01:43:24Z</dcterms:modified>
  <cp:revision>24</cp:revision>
  <dc:subject/>
  <dc:title>Casos de Uso</dc:title>
</cp:coreProperties>
</file>